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9B6-10A6-42BB-BF10-A8EB1F01A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897B-47C0-419A-B021-02FA14E1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EF4-655C-4403-B46B-E67987C7E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EA7-3A32-4102-99E9-820A2B30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5991-0169-4049-A22F-BDD723C1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3E0-4FBA-4BAA-AA4F-FFD8EA1B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BEA-8742-47A0-B4ED-B7124CBC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2113-68F6-4F08-8E47-2E0FF203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7F1A-CBFE-4383-859C-52F676B30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0F43-1403-477E-B9AD-86B2AC44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38CF-3102-477C-92D9-CC8A69F4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1A6B-50B1-4B4B-BA48-642C0CB2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C7A4-0CEC-4E85-AA8E-46479148B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C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2193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 count my pennies, I count by on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,3,4, 5 an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3:25:51Z</dcterms:created>
  <dc:creator>Patricia White</dc:creator>
  <dc:description/>
  <dc:language>en-US</dc:language>
  <cp:lastModifiedBy>Patricia White</cp:lastModifiedBy>
  <dcterms:modified xsi:type="dcterms:W3CDTF">2010-01-13T03:29:58Z</dcterms:modified>
  <cp:revision>1</cp:revision>
  <dc:subject/>
  <dc:title>Counting Coins</dc:title>
</cp:coreProperties>
</file>